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251C-5A0C-4175-8219-F65DFC2C0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D412-04F1-47FC-AB30-5C85B95CF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C2BF-0303-462B-A6CA-E44D863E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25C4-C3B9-4CFD-9635-CEEE164B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7CAD-35F9-4662-9B22-0584EAF42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6246-502E-46E8-A824-8DAAA468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4C1D-B60B-4365-AB6F-3E4240A6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F027-83CE-44EE-945A-1EE2E23A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B663-5F9E-48DA-9D32-AA13CC83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F879-A3F2-4A1F-86E3-ECEB435E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26D5-BBC4-4C6C-A14C-0523A067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C346-9E32-44B7-8972-9ADFCC1D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A140-0A74-4486-810B-B5701EB4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8156-0C53-4B0B-829F-FD51009B5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2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ther is Everyw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Joan Kalweit and Kathy S. Wh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Œ2001 Kathy S. White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1778040" cy="1498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5105520"/>
            <a:ext cx="1828800" cy="1485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914400" y="4800600"/>
            <a:ext cx="180324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ther is her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everyw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0880" y="2895480"/>
            <a:ext cx="1727280" cy="1473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80880" y="4876920"/>
            <a:ext cx="1727280" cy="1498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3581280" y="4876920"/>
            <a:ext cx="1828800" cy="1485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6248520" y="2819520"/>
            <a:ext cx="1676160" cy="1460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7772400" y="4038480"/>
            <a:ext cx="1371600" cy="1190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5638680" y="5105520"/>
            <a:ext cx="1791000" cy="1460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3505320" y="2895480"/>
            <a:ext cx="180324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981080" y="1752480"/>
            <a:ext cx="5229360" cy="297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End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ther is her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n the r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3571920" cy="2943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34120" y="2971800"/>
            <a:ext cx="335268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in is we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09680" y="1819440"/>
            <a:ext cx="518184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ther is her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sno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4953240" cy="4140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867280" y="2362320"/>
            <a:ext cx="30481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ow is col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9880" y="2209680"/>
            <a:ext cx="198144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905120" y="2362320"/>
            <a:ext cx="4495680" cy="3757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352680" y="3581280"/>
            <a:ext cx="2895840" cy="2522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6858000" y="2438280"/>
            <a:ext cx="172728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ther is her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ind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4175280" cy="3405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181480" y="2819520"/>
            <a:ext cx="358164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wind blow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2438280"/>
            <a:ext cx="3886200" cy="3157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48320" y="1955880"/>
            <a:ext cx="411480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ther is her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su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525780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ho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3124440" cy="2633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181480" y="2265480"/>
            <a:ext cx="335304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8T01:04:02Z</dcterms:created>
  <dc:creator>School District of Janesville</dc:creator>
  <dc:description/>
  <dc:language>en-US</dc:language>
  <cp:lastModifiedBy> </cp:lastModifiedBy>
  <cp:lastPrinted>2000-02-08T14:09:40Z</cp:lastPrinted>
  <dcterms:modified xsi:type="dcterms:W3CDTF">2005-01-27T19:49:38Z</dcterms:modified>
  <cp:revision>5</cp:revision>
  <dc:subject/>
  <dc:title>Weather is Everywhere</dc:title>
</cp:coreProperties>
</file>